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315200" cy="10098088"/>
  <p:notesSz cx="6858000" cy="9317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C696-FCAD-4AF3-A79B-1CD113114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91640" y="673200"/>
            <a:ext cx="6218280" cy="1682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4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91640" y="2692080"/>
            <a:ext cx="6218280" cy="2889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91640" y="5856480"/>
            <a:ext cx="6218280" cy="2889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7D83-53AB-4773-AF06-428652AA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91640" y="673200"/>
            <a:ext cx="6218280" cy="1682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4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91640" y="2692080"/>
            <a:ext cx="3034440" cy="2889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78360" y="2692080"/>
            <a:ext cx="3034440" cy="2889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91640" y="5856480"/>
            <a:ext cx="3034440" cy="2889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978360" y="5856480"/>
            <a:ext cx="3034440" cy="2889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AD39-7272-45BA-91DA-36F606213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91640" y="673200"/>
            <a:ext cx="6218280" cy="1682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4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91640" y="2692080"/>
            <a:ext cx="2001960" cy="2889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894040" y="2692080"/>
            <a:ext cx="2001960" cy="2889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6440" y="2692080"/>
            <a:ext cx="2001960" cy="2889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91640" y="5856480"/>
            <a:ext cx="2001960" cy="2889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894040" y="5856480"/>
            <a:ext cx="2001960" cy="2889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996440" y="5856480"/>
            <a:ext cx="2001960" cy="2889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D7EC-F48E-4F01-ACA8-F2F4C317F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1004-F6A9-4ACA-AECC-99316ACD6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1640" y="673200"/>
            <a:ext cx="6218280" cy="1682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4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91640" y="2692080"/>
            <a:ext cx="6218280" cy="60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33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406B-AD20-451C-AD48-22CBB4BA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1640" y="673200"/>
            <a:ext cx="6218280" cy="1682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4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91640" y="2692080"/>
            <a:ext cx="6218280" cy="6057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D36E-971D-45A8-A791-54F9C812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91640" y="673200"/>
            <a:ext cx="6218280" cy="1682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4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1640" y="2692080"/>
            <a:ext cx="3034440" cy="6057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78360" y="2692080"/>
            <a:ext cx="3034440" cy="6057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43C6-98CC-4D58-BDAE-185410DC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91640" y="673200"/>
            <a:ext cx="6218280" cy="1682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4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A952-B858-4089-89C6-D37EA4B4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91640" y="673200"/>
            <a:ext cx="6218280" cy="78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33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6D3E-4D37-4BB6-8C5D-9620AE1F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91640" y="673200"/>
            <a:ext cx="6218280" cy="1682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4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1640" y="2692080"/>
            <a:ext cx="3034440" cy="2889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78360" y="2692080"/>
            <a:ext cx="3034440" cy="6057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1640" y="5856480"/>
            <a:ext cx="3034440" cy="2889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2212-80E4-4589-9866-F6725CE8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91640" y="673200"/>
            <a:ext cx="6218280" cy="1682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4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91640" y="2692080"/>
            <a:ext cx="6218280" cy="60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33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3047-BB37-4DD4-9063-423E16B1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1640" y="673200"/>
            <a:ext cx="6218280" cy="1682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4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1640" y="2692080"/>
            <a:ext cx="3034440" cy="6057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78360" y="2692080"/>
            <a:ext cx="3034440" cy="2889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78360" y="5856480"/>
            <a:ext cx="3034440" cy="2889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D8E4-462C-4A8E-8532-141D4744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91640" y="673200"/>
            <a:ext cx="6218280" cy="1682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4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1640" y="2692080"/>
            <a:ext cx="3034440" cy="2889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78360" y="2692080"/>
            <a:ext cx="3034440" cy="2889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91640" y="5856480"/>
            <a:ext cx="6218280" cy="2889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5DC1-87A1-42AE-BEAB-129ADA99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91640" y="673200"/>
            <a:ext cx="6218280" cy="1682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4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1640" y="2692080"/>
            <a:ext cx="6218280" cy="2889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91640" y="5856480"/>
            <a:ext cx="6218280" cy="2889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FEB5-E638-48B6-8132-BAD2B7D4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91640" y="673200"/>
            <a:ext cx="6218280" cy="1682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4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91640" y="2692080"/>
            <a:ext cx="3034440" cy="2889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78360" y="2692080"/>
            <a:ext cx="3034440" cy="2889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1640" y="5856480"/>
            <a:ext cx="3034440" cy="2889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78360" y="5856480"/>
            <a:ext cx="3034440" cy="2889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8097-5945-4E2C-8165-69302B3F8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91640" y="673200"/>
            <a:ext cx="6218280" cy="1682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4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91640" y="2692080"/>
            <a:ext cx="2001960" cy="2889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94040" y="2692080"/>
            <a:ext cx="2001960" cy="2889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96440" y="2692080"/>
            <a:ext cx="2001960" cy="2889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91640" y="5856480"/>
            <a:ext cx="2001960" cy="2889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94040" y="5856480"/>
            <a:ext cx="2001960" cy="2889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996440" y="5856480"/>
            <a:ext cx="2001960" cy="2889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7340-9D37-4ED2-9AA6-4869B54E6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91640" y="673200"/>
            <a:ext cx="6218280" cy="1682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4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91640" y="2692080"/>
            <a:ext cx="6218280" cy="6057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1988-C6E4-48C2-AC3C-618BB654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91640" y="673200"/>
            <a:ext cx="6218280" cy="1682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4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91640" y="2692080"/>
            <a:ext cx="3034440" cy="6057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978360" y="2692080"/>
            <a:ext cx="3034440" cy="6057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C9BB-9D66-4003-B549-551F3365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91640" y="673200"/>
            <a:ext cx="6218280" cy="1682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4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68DB-AA40-4A8C-9CF3-EC8BF10C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91640" y="673200"/>
            <a:ext cx="6218280" cy="78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33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9A16-B6AC-4FD9-86D0-D9AD58CA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91640" y="673200"/>
            <a:ext cx="6218280" cy="1682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4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1640" y="2692080"/>
            <a:ext cx="3034440" cy="2889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8360" y="2692080"/>
            <a:ext cx="3034440" cy="6057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91640" y="5856480"/>
            <a:ext cx="3034440" cy="2889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119C-8574-45C9-8BA2-48D7DAEE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91640" y="673200"/>
            <a:ext cx="6218280" cy="1682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4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1640" y="2692080"/>
            <a:ext cx="3034440" cy="6057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8360" y="2692080"/>
            <a:ext cx="3034440" cy="2889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78360" y="5856480"/>
            <a:ext cx="3034440" cy="2889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4488-5F2B-4742-AD0B-851BF303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91640" y="673200"/>
            <a:ext cx="6218280" cy="1682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4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1640" y="2692080"/>
            <a:ext cx="3034440" cy="2889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78360" y="2692080"/>
            <a:ext cx="3034440" cy="2889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91640" y="5856480"/>
            <a:ext cx="6218280" cy="2889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3A73-AD33-4406-8794-1DD584C8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097400" cy="10096200"/>
            <a:chOff x="0" y="0"/>
            <a:chExt cx="7097400" cy="10096200"/>
          </a:xfrm>
        </p:grpSpPr>
        <p:sp>
          <p:nvSpPr>
            <p:cNvPr id="1" name=""/>
            <p:cNvSpPr/>
            <p:nvPr/>
          </p:nvSpPr>
          <p:spPr>
            <a:xfrm>
              <a:off x="426600" y="350280"/>
              <a:ext cx="6670800" cy="940932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50680" cy="1009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12520" y="2355480"/>
              <a:ext cx="61974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91640" y="673200"/>
            <a:ext cx="6218280" cy="1682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46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91640" y="2692080"/>
            <a:ext cx="6218280" cy="6057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marL="355680" indent="-355680">
              <a:spcBef>
                <a:spcPts val="825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33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  <a:p>
            <a:pPr lvl="1" marL="771480" indent="-296640">
              <a:spcBef>
                <a:spcPts val="825"/>
              </a:spcBef>
              <a:buClr>
                <a:srgbClr val="ce9964"/>
              </a:buClr>
              <a:buFont typeface="Times New Roman"/>
              <a:buChar char="–"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33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  <a:p>
            <a:pPr lvl="2" marL="1187280" indent="-237960">
              <a:spcBef>
                <a:spcPts val="825"/>
              </a:spcBef>
              <a:buClr>
                <a:srgbClr val="ce9964"/>
              </a:buClr>
              <a:buFont typeface="Times New Roman"/>
              <a:buChar char="•"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33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  <a:p>
            <a:pPr lvl="3" marL="1662120" indent="-237960">
              <a:spcBef>
                <a:spcPts val="825"/>
              </a:spcBef>
              <a:buClr>
                <a:srgbClr val="ce9964"/>
              </a:buClr>
              <a:buFont typeface="Times New Roman"/>
              <a:buChar char="–"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33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  <a:p>
            <a:pPr lvl="4" marL="2136600" indent="-237960">
              <a:spcBef>
                <a:spcPts val="825"/>
              </a:spcBef>
              <a:buClr>
                <a:srgbClr val="ce9964"/>
              </a:buClr>
              <a:buFont typeface="Times New Roman"/>
              <a:buChar char="»"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33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  <a:p>
            <a:pPr lvl="5" marL="2136600" indent="-237960">
              <a:spcBef>
                <a:spcPts val="825"/>
              </a:spcBef>
              <a:buClr>
                <a:srgbClr val="402000"/>
              </a:buClr>
              <a:buFont typeface="Times New Roman"/>
              <a:buChar char="»"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33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  <a:p>
            <a:pPr lvl="6" marL="2136600" indent="-237960">
              <a:spcBef>
                <a:spcPts val="825"/>
              </a:spcBef>
              <a:buClr>
                <a:srgbClr val="402000"/>
              </a:buClr>
              <a:buFont typeface="Times New Roman"/>
              <a:buChar char="»"/>
              <a:tabLst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33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92000" y="8975520"/>
            <a:ext cx="1524240" cy="672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>
              <a:spcBef>
                <a:spcPts val="938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ru-RU" sz="15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938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ru-RU" sz="15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743200" y="8975520"/>
            <a:ext cx="2316240" cy="672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ctr">
              <a:spcBef>
                <a:spcPts val="938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ru-RU" sz="15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938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ru-RU" sz="15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5486040" y="8975520"/>
            <a:ext cx="1523880" cy="672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spcBef>
                <a:spcPts val="938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ru-RU" sz="15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938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3D1068D-A32B-4F18-89F2-C8FE15C47F94}" type="slidenum">
              <a:rPr b="0" lang="ru-RU" sz="15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7097400" cy="10096200"/>
            <a:chOff x="0" y="0"/>
            <a:chExt cx="7097400" cy="10096200"/>
          </a:xfrm>
        </p:grpSpPr>
        <p:sp>
          <p:nvSpPr>
            <p:cNvPr id="46" name=""/>
            <p:cNvSpPr/>
            <p:nvPr/>
          </p:nvSpPr>
          <p:spPr>
            <a:xfrm>
              <a:off x="426600" y="350280"/>
              <a:ext cx="6670800" cy="940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850680" cy="1009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9680" y="2835360"/>
            <a:ext cx="6218280" cy="1682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46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769680" y="8982000"/>
            <a:ext cx="1523880" cy="673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>
              <a:spcBef>
                <a:spcPts val="938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ru-RU" sz="15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938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ru-RU" sz="15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2720880" y="8982000"/>
            <a:ext cx="2316240" cy="673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ctr">
              <a:spcBef>
                <a:spcPts val="938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ru-RU" sz="15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938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ru-RU" sz="15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5464080" y="8982000"/>
            <a:ext cx="1524240" cy="673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spcBef>
                <a:spcPts val="938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ru-RU" sz="15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938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572A8CF-CFB1-4ECB-8E9E-127024E8C2C7}" type="slidenum">
              <a:rPr b="0" lang="ru-RU" sz="15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310680"/>
            <a:ext cx="6502320" cy="9255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ru-RU" sz="1500" spc="-1" strike="noStrike">
                <a:solidFill>
                  <a:srgbClr val="66ff33"/>
                </a:solidFill>
                <a:latin typeface="Times New Roman"/>
              </a:rPr>
              <a:t>Московский государственный колледж информационных технологий</a:t>
            </a:r>
            <a:endParaRPr b="0" lang="en-US" sz="15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9320" y="7300440"/>
            <a:ext cx="3047760" cy="1094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marL="355680" indent="0">
              <a:spcBef>
                <a:spcPts val="425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ru-RU" sz="1700" spc="-1" strike="noStrike">
                <a:solidFill>
                  <a:srgbClr val="cc0099"/>
                </a:solidFill>
                <a:latin typeface="Times New Roman"/>
              </a:rPr>
              <a:t>Работу выполнил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355680" indent="0">
              <a:spcBef>
                <a:spcPts val="425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ru-RU" sz="1700" spc="-1" strike="noStrike">
                <a:solidFill>
                  <a:srgbClr val="cc0099"/>
                </a:solidFill>
                <a:latin typeface="Times New Roman"/>
              </a:rPr>
              <a:t>студент</a:t>
            </a:r>
            <a:r>
              <a:rPr b="0" lang="ru-RU" sz="17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1700" spc="-1" strike="noStrike">
                <a:solidFill>
                  <a:srgbClr val="cc0066"/>
                </a:solidFill>
                <a:latin typeface="Times New Roman"/>
              </a:rPr>
              <a:t>гр. П-406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355680" indent="0">
              <a:spcBef>
                <a:spcPts val="425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i="1" lang="ru-RU" sz="1700" spc="-1" strike="noStrike">
                <a:solidFill>
                  <a:srgbClr val="cc0066"/>
                </a:solidFill>
                <a:latin typeface="Times New Roman"/>
              </a:rPr>
              <a:t>Коновалов С.Г.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57280" y="2608200"/>
            <a:ext cx="304812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normAutofit/>
          </a:bodyPr>
          <a:p>
            <a:pPr marL="369720" indent="-36972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31840" y="2776680"/>
            <a:ext cx="304812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normAutofit/>
          </a:bodyPr>
          <a:p>
            <a:pPr marL="369720" indent="-36972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925720" y="4038480"/>
            <a:ext cx="2349720" cy="29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УРСОВАЯ РАБОТ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657600" y="4815000"/>
            <a:ext cx="795240" cy="26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на тему:</a:t>
            </a:r>
            <a:endParaRPr b="0" lang="en-US" sz="1600" spc="1" strike="noStrike">
              <a:ln w="9360">
                <a:solidFill>
                  <a:srgbClr val="ff66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625760" y="5437080"/>
            <a:ext cx="4957560" cy="2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Учет безналичных расчетов и кассовых операций</a:t>
            </a:r>
            <a:endParaRPr b="0" lang="en-US" sz="16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19600" y="7300800"/>
            <a:ext cx="3047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normAutofit/>
          </a:bodyPr>
          <a:p>
            <a:pPr marL="369720" indent="-369720" algn="r">
              <a:spcBef>
                <a:spcPts val="4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ru-RU" sz="1800" spc="-1" strike="noStrike">
                <a:solidFill>
                  <a:srgbClr val="cc0099"/>
                </a:solidFill>
                <a:latin typeface="Times New Roman"/>
              </a:rPr>
              <a:t>Работу проверил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69720" indent="-369720" algn="r">
              <a:spcBef>
                <a:spcPts val="4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ru-RU" sz="1800" spc="-1" strike="noStrike">
                <a:solidFill>
                  <a:srgbClr val="cc0099"/>
                </a:solidFill>
                <a:latin typeface="Times New Roman"/>
              </a:rPr>
              <a:t>преподаватель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69720" indent="-369720" algn="r">
              <a:spcBef>
                <a:spcPts val="4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i="1" lang="ru-RU" sz="1800" spc="-1" strike="noStrike">
                <a:solidFill>
                  <a:srgbClr val="cc0066"/>
                </a:solidFill>
                <a:latin typeface="Times New Roman"/>
              </a:rPr>
              <a:t>В. С. Фомина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38320" y="2717640"/>
            <a:ext cx="54450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normAutofit/>
          </a:bodyPr>
          <a:p>
            <a:pPr marL="369720" indent="-369720" algn="ctr">
              <a:spcBef>
                <a:spcPts val="4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ru-RU" sz="1800" spc="-1" strike="noStrike">
                <a:solidFill>
                  <a:srgbClr val="00cc00"/>
                </a:solidFill>
                <a:latin typeface="Times New Roman"/>
              </a:rPr>
              <a:t>БУХГАЛТЕРСКИЙ УЧЕТ НА ПРЕДПРИЯТИЯХ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8600" y="9002880"/>
            <a:ext cx="10573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normAutofit/>
          </a:bodyPr>
          <a:p>
            <a:pPr marL="369720" indent="-369720">
              <a:spcBef>
                <a:spcPts val="499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Times New Roman"/>
              </a:rPr>
              <a:t>1997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8" name="M0Q7M7N8" descr=""/>
          <p:cNvPicPr/>
          <p:nvPr/>
        </p:nvPicPr>
        <p:blipFill>
          <a:blip r:embed="rId1"/>
          <a:stretch/>
        </p:blipFill>
        <p:spPr>
          <a:xfrm>
            <a:off x="1787400" y="1165320"/>
            <a:ext cx="1411560" cy="1087200"/>
          </a:xfrm>
          <a:prstGeom prst="rect">
            <a:avLst/>
          </a:prstGeom>
          <a:ln w="0">
            <a:noFill/>
          </a:ln>
        </p:spPr>
      </p:pic>
      <p:pic>
        <p:nvPicPr>
          <p:cNvPr id="99" name="M0Q7M7RV" descr=""/>
          <p:cNvPicPr/>
          <p:nvPr/>
        </p:nvPicPr>
        <p:blipFill>
          <a:blip r:embed="rId2"/>
          <a:stretch/>
        </p:blipFill>
        <p:spPr>
          <a:xfrm>
            <a:off x="4308480" y="1165320"/>
            <a:ext cx="1380960" cy="1087200"/>
          </a:xfrm>
          <a:prstGeom prst="rect">
            <a:avLst/>
          </a:prstGeom>
          <a:ln w="0">
            <a:noFill/>
          </a:ln>
        </p:spPr>
      </p:pic>
      <p:pic>
        <p:nvPicPr>
          <p:cNvPr id="100" name="M0Q7M7LU" descr=""/>
          <p:cNvPicPr/>
          <p:nvPr/>
        </p:nvPicPr>
        <p:blipFill>
          <a:blip r:embed="rId3"/>
          <a:stretch/>
        </p:blipFill>
        <p:spPr>
          <a:xfrm>
            <a:off x="6502320" y="388800"/>
            <a:ext cx="568440" cy="1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9T12:26:24Z</dcterms:created>
  <dc:creator>Сергей</dc:creator>
  <dc:description/>
  <dc:language>en-US</dc:language>
  <cp:lastModifiedBy>Сергей</cp:lastModifiedBy>
  <cp:lastPrinted>1997-12-03T17:42:52Z</cp:lastPrinted>
  <dcterms:modified xsi:type="dcterms:W3CDTF">1997-12-03T17:54:06Z</dcterms:modified>
  <cp:revision>7</cp:revision>
  <dc:subject/>
  <dc:title>Московский государственный колледж информационных технологий</dc:title>
</cp:coreProperties>
</file>